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D81-2D88-4FF3-ABA5-CD2929F8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7C6-0F77-4F19-9477-FB3D2F5A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D1E-561D-4164-95D1-EF127320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03B-2809-4E06-8FD7-27541D45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D60-A745-4BDF-B2D4-D2E1CBB1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7C4-E978-48E4-A462-6DECDAD8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742-4D49-49DA-90F7-6893E57E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4F3-17AE-4708-9721-5575D575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D92-9E03-48BF-8991-42A451F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BC6-A42C-48DB-A558-879A6F4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71C-B71D-4552-893B-00B774F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517-72A0-4212-923D-6583F7E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D039-08EB-4586-B0D4-91DA9591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052640"/>
            <a:ext cx="705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Pre-Planning: Knowledge of students and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languag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educational and cultural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likely levels of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different learning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content and organisation of the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of any 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Four main planning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ies: the way students will be grouped / move around the class / work quietly side-by-side / involved in a boisterous group-writing activity: VAR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s: language skills and sub-skills to 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: morphology, syntax, vocabulary, meaning and functions, pronunciation, sp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: provoking interest &amp; involvement; even when textbook is used, we need to judge topics and content; replace 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the most interesting content relies on good activities and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re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2923920"/>
            <a:ext cx="70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Pre-planning and th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chapter 22, page 310, Figure 2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e planning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5640" y="1052640"/>
            <a:ext cx="705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On the one end of the continu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ir head, while going to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ing a course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gle path’: teachers walk into class with no real idea of that they are going to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different learning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content and organisation of the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of any 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At the other end of the continu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ing formal plans for their classes: what they are going to do and why (either because they are going to be observed or required by some author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Vast majority of lesson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place between these two extremes: scribble things in their notebooks e.g. book page number, write something complex (list of words needed, questions to ask); list of web sites to visit with the information they want the students to loo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5640" y="2923920"/>
            <a:ext cx="70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Making a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from chapter 22, pages 312-3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4:09:42Z</dcterms:created>
  <dc:creator>Sofocleous</dc:creator>
  <dc:description/>
  <dc:language>en-US</dc:language>
  <cp:lastModifiedBy>Sofocleous</cp:lastModifiedBy>
  <dcterms:modified xsi:type="dcterms:W3CDTF">2008-11-27T14:22:50Z</dcterms:modified>
  <cp:revision>5</cp:revision>
  <dc:subject/>
  <dc:title>Lesson Planning</dc:title>
</cp:coreProperties>
</file>